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74354"/>
        <c:axId val="58846455"/>
      </c:barChart>
      <c:catAx>
        <c:axId val="11174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46455"/>
        <c:crosses val="autoZero"/>
        <c:auto val="1"/>
        <c:lblAlgn val="ctr"/>
        <c:lblOffset val="100"/>
        <c:noMultiLvlLbl val="0"/>
      </c:catAx>
      <c:valAx>
        <c:axId val="58846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74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9A4-3352-455E-9862-C4FC2ABA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299-EAF9-49CC-9BF7-39FA8ECF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D0E-C23C-41CC-B4B1-8896144A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DC8-0443-47D0-AFF4-6FD6476E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7942-080D-428B-B53F-AE2A4452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3D11-1EBA-45C5-BE52-A510593F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5F6-2E9E-4912-BAD5-3005B080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09E-A58E-485B-868A-F1C85083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807-B186-4E23-B302-7583BC12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950-29A4-48B6-8CBD-908DE19F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613-8D96-444E-B112-6BE82EF0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EF3-158C-4FAB-AC72-4C1D419D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2DF38-CF04-4734-973C-01811982E2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