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75D6-A81E-44B6-9EE4-5A320A268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02AD-A880-49D5-9C42-C78846635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545C-7450-4209-AE62-DEC9EE8C6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933A-2CB4-4480-89F4-00E2156E2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C3D6-2539-4C31-95CB-55DEE1CE4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DA29-C6EB-4F25-9526-8323F783E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736F-1795-4E39-9E19-3B91B7022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2C4B-F074-4ABF-ACB7-4A6B7C2DB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5749-FD3C-46EC-978C-D302855B7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1BC9-5716-4D8C-A536-B5F47FD3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F040-FF23-4B98-A1EE-38235B5A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91E6-A681-4376-8CEA-CAC96D3D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9E5FB-65EB-4AED-AEDE-BD18DC92FD1E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맑은 고딕"/>
              </a:rPr>
              <a:t>PPT VBA TEST</a:t>
            </a:r>
            <a:endParaRPr b="0" lang="en-US" sz="6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실행 단추: 앞으로 또는 다음으로 이동 3"/>
          <p:cNvSpPr/>
          <p:nvPr/>
        </p:nvSpPr>
        <p:spPr>
          <a:xfrm>
            <a:off x="4757760" y="4062240"/>
            <a:ext cx="2665440" cy="1352880"/>
          </a:xfrm>
          <a:custGeom>
            <a:avLst/>
            <a:gdLst>
              <a:gd name="textAreaLeft" fmla="*/ 87480 w 2665440"/>
              <a:gd name="textAreaRight" fmla="*/ 2577960 w 2665440"/>
              <a:gd name="textAreaTop" fmla="*/ 87480 h 1352880"/>
              <a:gd name="textAreaBottom" fmla="*/ 1265400 h 1352880"/>
            </a:gdLst>
            <a:ahLst/>
            <a:rect l="textAreaLeft" t="textAreaTop" r="textAreaRight" b="textAreaBottom"/>
            <a:pathLst>
              <a:path w="42551" h="21600">
                <a:moveTo>
                  <a:pt x="0" y="0"/>
                </a:moveTo>
                <a:lnTo>
                  <a:pt x="42551" y="0"/>
                </a:lnTo>
                <a:lnTo>
                  <a:pt x="42551" y="21600"/>
                </a:lnTo>
                <a:lnTo>
                  <a:pt x="0" y="21600"/>
                </a:lnTo>
                <a:close/>
              </a:path>
              <a:path fill="lightenLess" w="42551" h="21600">
                <a:moveTo>
                  <a:pt x="0" y="0"/>
                </a:moveTo>
                <a:lnTo>
                  <a:pt x="42551" y="0"/>
                </a:lnTo>
                <a:lnTo>
                  <a:pt x="41151" y="1400"/>
                </a:lnTo>
                <a:lnTo>
                  <a:pt x="1400" y="1400"/>
                </a:lnTo>
                <a:close/>
              </a:path>
              <a:path fill="darken" w="42551" h="21600">
                <a:moveTo>
                  <a:pt x="42551" y="0"/>
                </a:moveTo>
                <a:lnTo>
                  <a:pt x="42551" y="21600"/>
                </a:lnTo>
                <a:lnTo>
                  <a:pt x="41151" y="20200"/>
                </a:lnTo>
                <a:lnTo>
                  <a:pt x="41151" y="1400"/>
                </a:lnTo>
                <a:close/>
              </a:path>
              <a:path fill="darkenLess" w="42551" h="21600">
                <a:moveTo>
                  <a:pt x="42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51" y="20200"/>
                </a:lnTo>
                <a:close/>
              </a:path>
              <a:path fill="lighten" w="42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51" h="21600">
                <a:moveTo>
                  <a:pt x="14269" y="3794"/>
                </a:moveTo>
                <a:lnTo>
                  <a:pt x="28282" y="10800"/>
                </a:lnTo>
                <a:lnTo>
                  <a:pt x="14269" y="17806"/>
                </a:lnTo>
                <a:close/>
              </a:path>
            </a:pathLst>
          </a:cu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5T00:45:36Z</dcterms:created>
  <dc:creator>김 기정</dc:creator>
  <dc:description/>
  <dc:language>en-US</dc:language>
  <cp:lastModifiedBy>김 기정</cp:lastModifiedBy>
  <dcterms:modified xsi:type="dcterms:W3CDTF">2021-11-05T01:03:23Z</dcterms:modified>
  <cp:revision>7</cp:revision>
  <dc:subject/>
  <dc:title>PPT VBA TEST</dc:title>
</cp:coreProperties>
</file>