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DC8D-21A6-4F1F-9A3F-28533285A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DD0C-9FAD-4E28-9ABC-9ED0C0285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D290-74E3-483C-86AD-44CDAB41C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5946-D9D9-4FAA-98D4-0B59F2956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D7C6-AC7E-4AE4-8C90-02E67292A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A6A4-06AF-477A-B371-B30C572C5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FE35-01F2-448A-98CF-7D22B4EFC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9796-348E-4930-B6F9-23AA198FA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5816-33AB-4825-BFF0-1D59F4D7F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F30D-0FB4-4708-98AA-F30B3FAAC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7D47-48BF-43DE-9178-F5BE72A2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9774-5DBF-422F-84A5-C0C68AFCF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50127-CBD3-4E4B-9CFD-FE22C6F4444F}" type="slidenum"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맑은 고딕"/>
              </a:rPr>
              <a:t>PPT VBA TEST</a:t>
            </a:r>
            <a:endParaRPr b="0" lang="en-US" sz="6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실행 단추: 앞으로 또는 다음으로 이동 3"/>
          <p:cNvSpPr/>
          <p:nvPr/>
        </p:nvSpPr>
        <p:spPr>
          <a:xfrm>
            <a:off x="4757760" y="4062240"/>
            <a:ext cx="2665440" cy="1352880"/>
          </a:xfrm>
          <a:custGeom>
            <a:avLst/>
            <a:gdLst>
              <a:gd name="textAreaLeft" fmla="*/ 87480 w 2665440"/>
              <a:gd name="textAreaRight" fmla="*/ 2577960 w 2665440"/>
              <a:gd name="textAreaTop" fmla="*/ 87480 h 1352880"/>
              <a:gd name="textAreaBottom" fmla="*/ 1265400 h 1352880"/>
            </a:gdLst>
            <a:ahLst/>
            <a:rect l="textAreaLeft" t="textAreaTop" r="textAreaRight" b="textAreaBottom"/>
            <a:pathLst>
              <a:path w="42551" h="21600">
                <a:moveTo>
                  <a:pt x="0" y="0"/>
                </a:moveTo>
                <a:lnTo>
                  <a:pt x="42551" y="0"/>
                </a:lnTo>
                <a:lnTo>
                  <a:pt x="42551" y="21600"/>
                </a:lnTo>
                <a:lnTo>
                  <a:pt x="0" y="21600"/>
                </a:lnTo>
                <a:close/>
              </a:path>
              <a:path fill="lightenLess" w="42551" h="21600">
                <a:moveTo>
                  <a:pt x="0" y="0"/>
                </a:moveTo>
                <a:lnTo>
                  <a:pt x="42551" y="0"/>
                </a:lnTo>
                <a:lnTo>
                  <a:pt x="41151" y="1400"/>
                </a:lnTo>
                <a:lnTo>
                  <a:pt x="1400" y="1400"/>
                </a:lnTo>
                <a:close/>
              </a:path>
              <a:path fill="darken" w="42551" h="21600">
                <a:moveTo>
                  <a:pt x="42551" y="0"/>
                </a:moveTo>
                <a:lnTo>
                  <a:pt x="42551" y="21600"/>
                </a:lnTo>
                <a:lnTo>
                  <a:pt x="41151" y="20200"/>
                </a:lnTo>
                <a:lnTo>
                  <a:pt x="41151" y="1400"/>
                </a:lnTo>
                <a:close/>
              </a:path>
              <a:path fill="darkenLess" w="42551" h="21600">
                <a:moveTo>
                  <a:pt x="42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51" y="20200"/>
                </a:lnTo>
                <a:close/>
              </a:path>
              <a:path fill="lighten" w="42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51" h="21600">
                <a:moveTo>
                  <a:pt x="14269" y="3794"/>
                </a:moveTo>
                <a:lnTo>
                  <a:pt x="28282" y="10800"/>
                </a:lnTo>
                <a:lnTo>
                  <a:pt x="14269" y="17806"/>
                </a:lnTo>
                <a:close/>
              </a:path>
            </a:pathLst>
          </a:cu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05T00:45:36Z</dcterms:created>
  <dc:creator>김 기정</dc:creator>
  <dc:description/>
  <dc:language>en-US</dc:language>
  <cp:lastModifiedBy>김 기정</cp:lastModifiedBy>
  <dcterms:modified xsi:type="dcterms:W3CDTF">2021-11-05T01:03:23Z</dcterms:modified>
  <cp:revision>7</cp:revision>
  <dc:subject/>
  <dc:title>PPT VBA TEST</dc:title>
</cp:coreProperties>
</file>