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15567"/>
        <c:axId val="25326400"/>
      </c:barChart>
      <c:catAx>
        <c:axId val="98515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26400"/>
        <c:crosses val="autoZero"/>
        <c:auto val="1"/>
        <c:lblAlgn val="ctr"/>
        <c:lblOffset val="100"/>
        <c:noMultiLvlLbl val="0"/>
      </c:catAx>
      <c:valAx>
        <c:axId val="25326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5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E45-DFF8-44AE-A3D9-88840038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C81-A4CF-406E-9711-C72B3286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425-4AFE-4781-92EA-7ABACFA6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F3B-5355-4A07-839B-59A63F05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81D-3C5F-480A-900D-6169FCCB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E93-4886-4B3F-8F2C-7E91382B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75E-E365-49BE-9BB2-72C76518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424-0272-4742-A435-6E0D776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66A-F878-4E36-A9CC-8F12CB7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218-BC53-4BC4-98D1-50BB2B8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60BA-003E-4E0A-8ABF-270B1E3E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315-FD6C-48C9-937B-718B606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BA927-9BE8-46DF-9D61-FF1119D5E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