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47790"/>
        <c:axId val="70009032"/>
      </c:barChart>
      <c:catAx>
        <c:axId val="71547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9032"/>
        <c:crosses val="autoZero"/>
        <c:auto val="1"/>
        <c:lblAlgn val="ctr"/>
        <c:lblOffset val="100"/>
        <c:noMultiLvlLbl val="0"/>
      </c:catAx>
      <c:valAx>
        <c:axId val="70009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47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A2E-89F6-454D-8319-D94A9C2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57E-D892-4EF0-96AF-139E8A28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453-A4FD-48AF-83E8-5046DBBC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C22-8EF9-4F04-B895-45FF91FC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77D-DD23-4324-89C9-B1958A0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7CB2-4FD5-4E90-8CA2-DD8C998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24F-857C-4A3E-96E6-53DC29C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801-F94A-4E1A-BD3D-2179FCF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215-BFCB-4396-844C-BB75F33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062-41DE-4A4D-903B-5FF0FE38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78F-B969-465C-9F19-CA4D5B2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EF4-4BE7-46D7-8B63-0183050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20E16-64C9-4A1D-88A4-C1E09928DD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