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D386F4-85DC-42F3-89BC-BC4AC0E3D9D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7FC65A-B130-48E2-A618-3A907207899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8389D3-191F-47E0-B644-D527D367F93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70E3E5-016B-436D-8AEB-D2C26089C0B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8155C1-A169-4D89-994E-0531E24A375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941DAE-0841-49BE-B8B2-6118573929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83E3AA-CC2D-44C7-99BC-047E0CBCFF8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EEDF52-64B9-4D24-BCDB-149515FA0D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335A9B-95DC-4C1B-A5CC-2F93A792AE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64CFF-5203-4B2E-A476-5FA438507D3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340E-9135-46B3-A05F-E3A11829EA0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C59FBA-1444-4CDB-9397-E23A29AB90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0EEB40E-B4EE-472D-A7C0-7FB85A2B1F4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 u="sng">
                <a:solidFill>
                  <a:srgbClr val="800000"/>
                </a:solidFill>
                <a:uFillTx/>
                <a:latin typeface="Arial"/>
              </a:rPr>
              <a:t>STRATEGIC PLANNING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76520" y="1600200"/>
            <a:ext cx="5486040" cy="4594320"/>
            <a:chOff x="1676520" y="1600200"/>
            <a:chExt cx="5486040" cy="4594320"/>
          </a:xfrm>
        </p:grpSpPr>
        <p:sp>
          <p:nvSpPr>
            <p:cNvPr id="45" name=""/>
            <p:cNvSpPr/>
            <p:nvPr/>
          </p:nvSpPr>
          <p:spPr>
            <a:xfrm>
              <a:off x="6819840" y="1942920"/>
              <a:ext cx="342720" cy="1485720"/>
            </a:xfrm>
            <a:custGeom>
              <a:avLst/>
              <a:gdLst>
                <a:gd name="textAreaLeft" fmla="*/ 0 w 342720"/>
                <a:gd name="textAreaRight" fmla="*/ 123840 w 342720"/>
                <a:gd name="textAreaTop" fmla="*/ 38520 h 1485720"/>
                <a:gd name="textAreaBottom" fmla="*/ 1447200 h 148572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cubicBezTo>
                    <a:pt x="5400" y="0"/>
                    <a:pt x="10800" y="900"/>
                    <a:pt x="10800" y="1800"/>
                  </a:cubicBezTo>
                  <a:lnTo>
                    <a:pt x="10800" y="9000"/>
                  </a:lnTo>
                  <a:cubicBezTo>
                    <a:pt x="10800" y="9900"/>
                    <a:pt x="16200" y="10800"/>
                    <a:pt x="21600" y="10800"/>
                  </a:cubicBezTo>
                  <a:cubicBezTo>
                    <a:pt x="16200" y="10800"/>
                    <a:pt x="10800" y="11700"/>
                    <a:pt x="10800" y="12600"/>
                  </a:cubicBezTo>
                  <a:lnTo>
                    <a:pt x="10800" y="19800"/>
                  </a:lnTo>
                  <a:cubicBezTo>
                    <a:pt x="10800" y="20700"/>
                    <a:pt x="5400" y="21600"/>
                    <a:pt x="0" y="21600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6" name=""/>
            <p:cNvSpPr/>
            <p:nvPr/>
          </p:nvSpPr>
          <p:spPr>
            <a:xfrm>
              <a:off x="1676520" y="1600200"/>
              <a:ext cx="1371600" cy="217116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 u="sng">
                  <a:solidFill>
                    <a:srgbClr val="000000"/>
                  </a:solidFill>
                  <a:uFillTx/>
                  <a:latin typeface="Arial"/>
                </a:rPr>
                <a:t>INPUT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EOP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CAPITAL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MANAGERI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ECHNICAL SKILL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339084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TOP MANAGEMENT ORIENTATION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5334120" y="1714320"/>
              <a:ext cx="1485720" cy="68544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XTERNAL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 </a:t>
              </a: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3492360" y="2920680"/>
              <a:ext cx="161280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ENTERPRISE PROFILE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0" name=""/>
            <p:cNvSpPr/>
            <p:nvPr/>
          </p:nvSpPr>
          <p:spPr>
            <a:xfrm>
              <a:off x="35053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PURPOSE AND OBJECTIVES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5334120" y="2857320"/>
              <a:ext cx="1485720" cy="79992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ORECAST OF FUTURE ENVIRONMEN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5334120" y="4343040"/>
              <a:ext cx="1485720" cy="685800"/>
            </a:xfrm>
            <a:prstGeom prst="rect">
              <a:avLst/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RESOURCE AUDIT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3048120" y="2628720"/>
              <a:ext cx="7999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048120" y="3200040"/>
              <a:ext cx="4572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 flipV="1">
              <a:off x="3848040" y="2399760"/>
              <a:ext cx="0" cy="228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4191120" y="2400120"/>
              <a:ext cx="0" cy="5713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7" name=""/>
            <p:cNvSpPr/>
            <p:nvPr/>
          </p:nvSpPr>
          <p:spPr>
            <a:xfrm>
              <a:off x="4191120" y="356832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4876920" y="2057040"/>
              <a:ext cx="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4991040" y="46857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6019920" y="2400120"/>
              <a:ext cx="0" cy="4568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headEnd len="med" type="triangle" w="med"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1" name=""/>
            <p:cNvSpPr/>
            <p:nvPr/>
          </p:nvSpPr>
          <p:spPr>
            <a:xfrm flipV="1">
              <a:off x="5029200" y="2108160"/>
              <a:ext cx="0" cy="79992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5003640" y="2108160"/>
              <a:ext cx="34272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6819840" y="4685760"/>
              <a:ext cx="228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4" name=""/>
            <p:cNvSpPr/>
            <p:nvPr/>
          </p:nvSpPr>
          <p:spPr>
            <a:xfrm flipV="1">
              <a:off x="2171520" y="3718080"/>
              <a:ext cx="0" cy="2057040"/>
            </a:xfrm>
            <a:prstGeom prst="line">
              <a:avLst/>
            </a:prstGeom>
            <a:ln w="936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2184120" y="5775480"/>
              <a:ext cx="445788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733920" y="5851800"/>
              <a:ext cx="914400" cy="342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Arial"/>
                </a:rPr>
                <a:t>Feed Back</a:t>
              </a:r>
              <a:endParaRPr b="0" lang="en-US" sz="12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lthan</cp:lastModifiedBy>
  <dcterms:modified xsi:type="dcterms:W3CDTF">2009-08-12T12:24:10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