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9906"/>
        <c:axId val="37276494"/>
      </c:barChart>
      <c:catAx>
        <c:axId val="3449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76494"/>
        <c:crosses val="autoZero"/>
        <c:auto val="1"/>
        <c:lblAlgn val="ctr"/>
        <c:lblOffset val="100"/>
        <c:noMultiLvlLbl val="0"/>
      </c:catAx>
      <c:valAx>
        <c:axId val="37276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9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ABB-59A8-497A-A9F4-B1D729C0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2CD-7051-4FAD-AB8C-DB53122C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F04-7B01-4EDB-BA3D-53B9F572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0E0-5DE4-45DD-815C-9DB1AC5A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005-0748-4F57-8444-BDF6D4FA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350-3A0D-4ECC-BD47-843139C0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CD0-46A3-4AC2-BACB-D623D43B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164-E7BE-434A-AFA8-81720055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171-4AC3-4979-9A5A-5D3D19DF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E70-B1AE-4BB1-9534-32C6B21A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209-878E-45AC-9523-B835D11B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CDC-5982-41B3-99A7-573362E3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D5523-11E4-4FF9-802D-1D4EA65251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