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63821"/>
        <c:axId val="3968665"/>
      </c:barChart>
      <c:catAx>
        <c:axId val="11563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8665"/>
        <c:crosses val="autoZero"/>
        <c:auto val="1"/>
        <c:lblAlgn val="ctr"/>
        <c:lblOffset val="100"/>
        <c:noMultiLvlLbl val="0"/>
      </c:catAx>
      <c:valAx>
        <c:axId val="3968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3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809-5E27-4E2F-AB5C-3C46AC47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D96-4A73-47DF-A3EF-AF87E304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94C-19DD-4E50-B10F-C814A66C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912-09F3-4B78-9EE3-8AEB33DE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0AE-25D9-45F9-BD40-DA3BDC3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CE6-FF12-4F5D-8735-3690C0DD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A20-384E-47E8-A4D6-D46355ED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EE7-CE64-4E6F-A807-B684EDD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B2B-AD08-4FA5-B49C-DE9FD18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277-CEB8-4838-86F0-DBC15F6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766-712C-4515-B18D-CF04C9B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F3A-93B6-4CED-A130-8D29614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34683-62E8-4338-A69D-E5FBA4E2C8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