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46887"/>
        <c:axId val="24418542"/>
      </c:barChart>
      <c:catAx>
        <c:axId val="29346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8542"/>
        <c:crosses val="autoZero"/>
        <c:auto val="1"/>
        <c:lblAlgn val="ctr"/>
        <c:lblOffset val="100"/>
        <c:noMultiLvlLbl val="0"/>
      </c:catAx>
      <c:valAx>
        <c:axId val="24418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46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DB8-6B5F-4FC5-A7FF-6F79450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E2F-B0C0-4434-BBDF-3163AD7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9A7-1FB0-49AC-9068-AA1BD2E0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87E-9966-457C-94DD-D20A20C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ACC-33A8-41C3-98FA-5054636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315-6288-451D-8226-A4133445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FC5-8E0B-4DFB-8184-9DD07C58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F38-FD3E-4F40-AEF4-4B7D706D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5CE-BF97-440A-830A-3215B7C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883-2895-46E9-9B6F-7656194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71E-8E2B-4C35-9501-94026B6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3A1-F7D6-4E87-B38D-DB52864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95D35-E2AB-4682-8DD5-E7FC43395F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