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213018"/>
        <c:axId val="92862650"/>
      </c:barChart>
      <c:catAx>
        <c:axId val="912130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862650"/>
        <c:crosses val="autoZero"/>
        <c:auto val="1"/>
        <c:lblAlgn val="ctr"/>
        <c:lblOffset val="100"/>
        <c:noMultiLvlLbl val="0"/>
      </c:catAx>
      <c:valAx>
        <c:axId val="928626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2130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C405-97FB-4FB8-B9B5-F881F5EA1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DE17-5C04-4971-8386-60BC9B585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04F8-01B8-41AA-904A-FE0018C9B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96ED-8E66-4B3B-864B-EBD7CF9D9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9EB5-2A4A-421E-BFAC-2B4E8AB72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71F7-98BF-4E2C-8371-A94D4B6E0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A406-6BDD-46CE-8B3D-1E2A6B5F8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DA14-CD86-46B5-8033-CC64CEC71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1C8C-037F-42AB-B8DD-C7A139510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BCFC-0913-42E9-B5C8-21D614E3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9B2D-BC76-4A85-9C7B-32162F5B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8408-CF25-41EA-B2FF-198C1E47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2777ED-E27A-4C74-87DA-57CFFBCFB87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