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81724"/>
        <c:axId val="59744719"/>
      </c:barChart>
      <c:catAx>
        <c:axId val="93381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44719"/>
        <c:crosses val="autoZero"/>
        <c:auto val="1"/>
        <c:lblAlgn val="ctr"/>
        <c:lblOffset val="100"/>
        <c:noMultiLvlLbl val="0"/>
      </c:catAx>
      <c:valAx>
        <c:axId val="59744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1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758-6C7D-46C3-9431-A578E91A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DC3-E8C1-4700-BD85-EA52E652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FC0-F335-46CB-A46D-A4400BF3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A30-3BA3-4E17-9184-FA0584EB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626-2F4A-46E7-A434-BBABAB1D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F08-06B5-4196-8C49-F790465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87E-CB1A-424C-A794-C4D67E62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0B1-38AE-4711-A32A-4B75C02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6F9-6EE5-41C9-8A96-C3278B8A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704-C798-42FA-B92B-36A56403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8F0-A29C-4AB7-A705-D086D27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2E6-B1C2-440F-87CA-452865A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D5CA0-F9B3-49A2-8ABF-91E7B7B94C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